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384F-B55F-40A0-B247-3E7247AD76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37DB-FA96-4F9A-AAEF-F0BC5CF34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4FD5-0110-436A-8C93-F3388A932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15B7-FD9F-4E21-B3FA-BB142095C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57EB-F9EE-4BB9-B6D8-6FD174701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1054-933C-40A4-8961-0D741CB0F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B432-21DC-4BE7-8AAB-1CA89E60E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7BB11-2E70-415F-99DA-28A188ACE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001A-046A-42E1-9C90-A5C6C0912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4CBDA-C6FD-46CB-B837-6A49B64194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611BC-7BAB-4D71-A744-83FB15D738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AAE9A-DD2F-4155-BED2-5B86B36A65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7D685-0B2A-4817-B465-8B1BC66096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FF85-A7C9-411E-A652-8F27DF3CDB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CEB6-BD97-436A-84EE-6B2864D23D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06DE1-7B12-485A-93B8-ACE4D6DC3E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649A1-0CAD-4E76-A0EA-DE4221F46F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C93D4-7770-4332-8204-608EDEE127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64038-5B0F-4EDA-BEC9-DD006C3295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ADE47-5CA6-46B3-9931-9A502B3EB1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17D78-18EC-40D3-A68E-B439EADFB0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A26D3-809E-47D6-A666-6A7AA654E7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BAC2-5FFF-487D-A9BF-0FA1D92D26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9C6A-EB57-4A8A-A831-4997AB48BD2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457B-E6CB-4A91-BAA5-0BD906F47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7393-D478-4B1A-99F1-0A1C2D6006C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9642-3592-4ED7-8B7F-BC169FBD7E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9F18-F8E4-49BB-B030-93C4864F8E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D04-0F6A-4BBF-94FC-6590060551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2F0-104E-435C-8DD0-7FA04C2053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FBB7-98BB-4C81-B0E7-947F357CF33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577E-48BB-4F12-82CF-3A664D838B1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483A-7BA1-40B4-A58E-12B3FE82980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E06-9F6A-4F9C-A416-2DB159414EE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6139-B8C3-43BF-85FA-B66A6F5F5A0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33580-0F22-4568-A9E3-6CECC08CF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5D99-373C-49A8-A0E5-60A05C5E672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7B9BE-72F4-406D-9598-D4A747B13B9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7998C-AE03-4379-8E46-5F88E8B6BF2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6D55F-8570-4654-B4B8-26B0760E23F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F983D-542E-4048-8C5B-D5D53D5EE09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0AE9A-94E5-4A9D-AED1-F35E6954C68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35CBF-7479-4397-BCD6-675055F30B6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2A619-3BE9-42ED-BA36-F1D16C0BBB2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A5036-9D28-4E14-AC12-BB3AF26B5FC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F32C6-7E22-4F5F-AFAF-1DCCFBDDA08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61325-9B8B-4EC5-A651-2E48E8486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B9CB-27CC-456E-BB5C-A7400DD7EF2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16279-AC6C-44F2-8D9F-F2469E79899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9A1B-394A-48C4-8D82-DEA84FAAC69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0116-EE9D-4747-BE76-69097FDAB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35F2E-49E0-4128-AEDE-A422D3C74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8fb2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162840"/>
            <a:ext cx="9144000" cy="69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5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45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45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228600" y="6202440"/>
            <a:ext cx="4302000" cy="664920"/>
            <a:chOff x="228600" y="6202440"/>
            <a:chExt cx="4302000" cy="664920"/>
          </a:xfrm>
        </p:grpSpPr>
        <p:pic>
          <p:nvPicPr>
            <p:cNvPr id="4" name="Picture 4" descr="CareerandCollege_FINAL.png"/>
            <p:cNvPicPr/>
            <p:nvPr/>
          </p:nvPicPr>
          <p:blipFill>
            <a:blip r:embed="rId2"/>
            <a:stretch/>
          </p:blipFill>
          <p:spPr>
            <a:xfrm>
              <a:off x="228600" y="6278040"/>
              <a:ext cx="69336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8" descr="ppt_acre_wordheader.png"/>
            <p:cNvPicPr/>
            <p:nvPr/>
          </p:nvPicPr>
          <p:blipFill>
            <a:blip r:embed="rId3"/>
            <a:stretch/>
          </p:blipFill>
          <p:spPr>
            <a:xfrm>
              <a:off x="1060560" y="6202440"/>
              <a:ext cx="347004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Straight Connector 10"/>
            <p:cNvSpPr/>
            <p:nvPr/>
          </p:nvSpPr>
          <p:spPr>
            <a:xfrm>
              <a:off x="1000080" y="6276960"/>
              <a:ext cx="0" cy="506160"/>
            </a:xfrm>
            <a:prstGeom prst="line">
              <a:avLst/>
            </a:prstGeom>
            <a:ln w="25560">
              <a:solidFill>
                <a:srgbClr val="0045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Rectangle 14"/>
          <p:cNvSpPr/>
          <p:nvPr/>
        </p:nvSpPr>
        <p:spPr>
          <a:xfrm>
            <a:off x="-76320" y="6116760"/>
            <a:ext cx="9372600" cy="7596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93396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57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2/14/2011  •  page </a:t>
            </a:r>
            <a:fld id="{5A59E239-0A5F-4D06-8460-F8AD1447E128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8fb2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0" y="6162840"/>
            <a:ext cx="9144000" cy="69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5"/>
          <p:cNvGrpSpPr/>
          <p:nvPr/>
        </p:nvGrpSpPr>
        <p:grpSpPr>
          <a:xfrm>
            <a:off x="228600" y="6202440"/>
            <a:ext cx="4302000" cy="664920"/>
            <a:chOff x="228600" y="6202440"/>
            <a:chExt cx="4302000" cy="664920"/>
          </a:xfrm>
        </p:grpSpPr>
        <p:pic>
          <p:nvPicPr>
            <p:cNvPr id="83" name="Picture 4" descr="CareerandCollege_FINAL.png"/>
            <p:cNvPicPr/>
            <p:nvPr/>
          </p:nvPicPr>
          <p:blipFill>
            <a:blip r:embed="rId2"/>
            <a:stretch/>
          </p:blipFill>
          <p:spPr>
            <a:xfrm>
              <a:off x="228600" y="6278040"/>
              <a:ext cx="69336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8" descr="ppt_acre_wordheader.png"/>
            <p:cNvPicPr/>
            <p:nvPr/>
          </p:nvPicPr>
          <p:blipFill>
            <a:blip r:embed="rId3"/>
            <a:stretch/>
          </p:blipFill>
          <p:spPr>
            <a:xfrm>
              <a:off x="1060560" y="6202440"/>
              <a:ext cx="347004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Straight Connector 10"/>
            <p:cNvSpPr/>
            <p:nvPr/>
          </p:nvSpPr>
          <p:spPr>
            <a:xfrm>
              <a:off x="1000080" y="6276960"/>
              <a:ext cx="0" cy="506160"/>
            </a:xfrm>
            <a:prstGeom prst="line">
              <a:avLst/>
            </a:prstGeom>
            <a:ln w="25560">
              <a:solidFill>
                <a:srgbClr val="0045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14"/>
          <p:cNvSpPr/>
          <p:nvPr/>
        </p:nvSpPr>
        <p:spPr>
          <a:xfrm>
            <a:off x="-76320" y="6116760"/>
            <a:ext cx="9372600" cy="7596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5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45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45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693396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57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168C-086C-49F9-80E7-CF9A71F1B359}" type="datetime">
              <a:rPr b="0" lang="en-US" sz="1200" spc="-1" strike="noStrike">
                <a:solidFill>
                  <a:srgbClr val="00457e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  •  page </a:t>
            </a:r>
            <a:fld id="{8274015A-4214-44BC-9D56-78787482853B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8fb2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0" y="6162840"/>
            <a:ext cx="9144000" cy="69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5"/>
          <p:cNvGrpSpPr/>
          <p:nvPr/>
        </p:nvGrpSpPr>
        <p:grpSpPr>
          <a:xfrm>
            <a:off x="228600" y="6202440"/>
            <a:ext cx="4302000" cy="664920"/>
            <a:chOff x="228600" y="6202440"/>
            <a:chExt cx="4302000" cy="664920"/>
          </a:xfrm>
        </p:grpSpPr>
        <p:pic>
          <p:nvPicPr>
            <p:cNvPr id="128" name="Picture 4" descr="CareerandCollege_FINAL.png"/>
            <p:cNvPicPr/>
            <p:nvPr/>
          </p:nvPicPr>
          <p:blipFill>
            <a:blip r:embed="rId2"/>
            <a:stretch/>
          </p:blipFill>
          <p:spPr>
            <a:xfrm>
              <a:off x="228600" y="6278040"/>
              <a:ext cx="69336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8" descr="ppt_acre_wordheader.png"/>
            <p:cNvPicPr/>
            <p:nvPr/>
          </p:nvPicPr>
          <p:blipFill>
            <a:blip r:embed="rId3"/>
            <a:stretch/>
          </p:blipFill>
          <p:spPr>
            <a:xfrm>
              <a:off x="1060560" y="6202440"/>
              <a:ext cx="347004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Straight Connector 10"/>
            <p:cNvSpPr/>
            <p:nvPr/>
          </p:nvSpPr>
          <p:spPr>
            <a:xfrm>
              <a:off x="1000080" y="6276960"/>
              <a:ext cx="0" cy="506160"/>
            </a:xfrm>
            <a:prstGeom prst="line">
              <a:avLst/>
            </a:prstGeom>
            <a:ln w="25560">
              <a:solidFill>
                <a:srgbClr val="0045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4"/>
          <p:cNvSpPr/>
          <p:nvPr/>
        </p:nvSpPr>
        <p:spPr>
          <a:xfrm>
            <a:off x="-76320" y="6116760"/>
            <a:ext cx="9372600" cy="7596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5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45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45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3"/>
          </p:nvPr>
        </p:nvSpPr>
        <p:spPr>
          <a:xfrm>
            <a:off x="693396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57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6D56-76BC-48BB-90B2-99A217253B90}" type="datetime">
              <a:rPr b="0" lang="en-US" sz="1200" spc="-1" strike="noStrike">
                <a:solidFill>
                  <a:srgbClr val="00457e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  •  page </a:t>
            </a:r>
            <a:fld id="{978DA347-2572-4F0E-8B81-6CBA505F0E83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8fb2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6162840"/>
            <a:ext cx="9144000" cy="69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228600" y="6202440"/>
            <a:ext cx="4302000" cy="664920"/>
            <a:chOff x="228600" y="6202440"/>
            <a:chExt cx="4302000" cy="664920"/>
          </a:xfrm>
        </p:grpSpPr>
        <p:pic>
          <p:nvPicPr>
            <p:cNvPr id="173" name="Picture 4" descr="CareerandCollege_FINAL.png"/>
            <p:cNvPicPr/>
            <p:nvPr/>
          </p:nvPicPr>
          <p:blipFill>
            <a:blip r:embed="rId2"/>
            <a:stretch/>
          </p:blipFill>
          <p:spPr>
            <a:xfrm>
              <a:off x="228600" y="6278040"/>
              <a:ext cx="69336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8" descr="ppt_acre_wordheader.png"/>
            <p:cNvPicPr/>
            <p:nvPr/>
          </p:nvPicPr>
          <p:blipFill>
            <a:blip r:embed="rId3"/>
            <a:stretch/>
          </p:blipFill>
          <p:spPr>
            <a:xfrm>
              <a:off x="1060560" y="6202440"/>
              <a:ext cx="347004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Straight Connector 10"/>
            <p:cNvSpPr/>
            <p:nvPr/>
          </p:nvSpPr>
          <p:spPr>
            <a:xfrm>
              <a:off x="1000080" y="6276960"/>
              <a:ext cx="0" cy="506160"/>
            </a:xfrm>
            <a:prstGeom prst="line">
              <a:avLst/>
            </a:prstGeom>
            <a:ln w="25560">
              <a:solidFill>
                <a:srgbClr val="0045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tangle 14"/>
          <p:cNvSpPr/>
          <p:nvPr/>
        </p:nvSpPr>
        <p:spPr>
          <a:xfrm>
            <a:off x="-76320" y="6116760"/>
            <a:ext cx="9372600" cy="7596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5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45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45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4"/>
          </p:nvPr>
        </p:nvSpPr>
        <p:spPr>
          <a:xfrm>
            <a:off x="693396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57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61F8-AB97-40AE-A0AD-53BF12225CF5}" type="datetime">
              <a:rPr b="0" lang="en-US" sz="1200" spc="-1" strike="noStrike">
                <a:solidFill>
                  <a:srgbClr val="00457e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  •  page </a:t>
            </a:r>
            <a:fld id="{BB1DCAF6-CDF7-4C38-A315-003A4B1B08BF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57e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CareerandCollege_FINAL.png"/>
          <p:cNvPicPr/>
          <p:nvPr/>
        </p:nvPicPr>
        <p:blipFill>
          <a:blip r:embed="rId2"/>
          <a:stretch/>
        </p:blipFill>
        <p:spPr>
          <a:xfrm>
            <a:off x="274680" y="228600"/>
            <a:ext cx="1849320" cy="1379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ppt_acre_wordheader.png"/>
          <p:cNvPicPr/>
          <p:nvPr/>
        </p:nvPicPr>
        <p:blipFill>
          <a:blip r:embed="rId3"/>
          <a:stretch/>
        </p:blipFill>
        <p:spPr>
          <a:xfrm>
            <a:off x="2362320" y="304920"/>
            <a:ext cx="6553080" cy="1255680"/>
          </a:xfrm>
          <a:prstGeom prst="rect">
            <a:avLst/>
          </a:prstGeom>
          <a:ln w="0">
            <a:noFill/>
          </a:ln>
        </p:spPr>
      </p:pic>
      <p:sp>
        <p:nvSpPr>
          <p:cNvPr id="219" name="Straight Connector 4"/>
          <p:cNvSpPr/>
          <p:nvPr/>
        </p:nvSpPr>
        <p:spPr>
          <a:xfrm>
            <a:off x="2235240" y="152280"/>
            <a:ext cx="0" cy="1447920"/>
          </a:xfrm>
          <a:prstGeom prst="line">
            <a:avLst/>
          </a:prstGeom>
          <a:ln w="25560">
            <a:solidFill>
              <a:srgbClr val="0045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1773360"/>
            <a:ext cx="9144000" cy="14760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stewart@dpi.state.nc.us" TargetMode="External"/><Relationship Id="rId2" Type="http://schemas.openxmlformats.org/officeDocument/2006/relationships/hyperlink" Target="mailto:tgreggs@dpi.state.nc.us" TargetMode="External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mon Core and Essential Standards Summer Institu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ebinar Seri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A and Charter School Team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ch 21-24, 2011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000"/>
            </a:br>
            <a:br>
              <a:rPr sz="28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5562360"/>
            <a:ext cx="7467480" cy="990360"/>
          </a:xfrm>
          <a:prstGeom prst="rect">
            <a:avLst/>
          </a:prstGeom>
          <a:noFill/>
          <a:ln w="3240">
            <a:solidFill>
              <a:srgbClr val="f0f3ee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ummer Institute Contact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vette Stewart, RttT Project Coordinator, PD |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stewart@dpi.state.nc.us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racey Greggs, RttT Project Coordinator, Standards and Assessment |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tgreggs@dpi.state.nc.us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2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2/14/2011  •  page </a:t>
            </a:r>
            <a:fld id="{548542A3-58FE-4B80-A4CC-9223497C76EE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3"/>
          <p:cNvSpPr/>
          <p:nvPr/>
        </p:nvSpPr>
        <p:spPr>
          <a:xfrm>
            <a:off x="762120" y="762120"/>
            <a:ext cx="75438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pic15.jpg"/>
          <p:cNvPicPr/>
          <p:nvPr/>
        </p:nvPicPr>
        <p:blipFill>
          <a:blip r:embed="rId1"/>
          <a:stretch/>
        </p:blipFill>
        <p:spPr>
          <a:xfrm>
            <a:off x="0" y="1371600"/>
            <a:ext cx="4692600" cy="3676680"/>
          </a:xfrm>
          <a:prstGeom prst="rect">
            <a:avLst/>
          </a:prstGeom>
          <a:ln w="0">
            <a:noFill/>
          </a:ln>
        </p:spPr>
      </p:pic>
      <p:sp>
        <p:nvSpPr>
          <p:cNvPr id="343" name="TextBox 6"/>
          <p:cNvSpPr/>
          <p:nvPr/>
        </p:nvSpPr>
        <p:spPr>
          <a:xfrm>
            <a:off x="4572000" y="914400"/>
            <a:ext cx="4495680" cy="5107320"/>
          </a:xfrm>
          <a:prstGeom prst="rect">
            <a:avLst/>
          </a:prstGeom>
          <a:solidFill>
            <a:srgbClr val="4e75a3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PI Recommen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nt Areas (by grade spa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LA (K-5) (6-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th (K-5) (6-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cience (K-5) (6-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ocial Studies (K-5) (6-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-12 Content A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urriculum Specialist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orld Languages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Arts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althful Living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SL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*Also consider:   </a:t>
            </a: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Instructional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Exceptional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	</a:t>
            </a:r>
            <a:r>
              <a:rPr b="1" lang="en-US" sz="1100" spc="-1" strike="noStrike">
                <a:solidFill>
                  <a:srgbClr val="f0f3ee"/>
                </a:solidFill>
                <a:latin typeface="Calibri"/>
              </a:rPr>
              <a:t>Professional Development Coordinat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Career and Technical Education (C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Teac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7"/>
          <p:cNvSpPr/>
          <p:nvPr/>
        </p:nvSpPr>
        <p:spPr>
          <a:xfrm>
            <a:off x="76320" y="152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8fb2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itle 1"/>
          <p:cNvSpPr/>
          <p:nvPr/>
        </p:nvSpPr>
        <p:spPr>
          <a:xfrm>
            <a:off x="533520" y="304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7e"/>
                </a:solidFill>
                <a:latin typeface="Arial"/>
                <a:ea typeface="Arial"/>
              </a:rPr>
              <a:t>BUILDING YOUR PROFESSIONAL DEVELOPMENT LEADER TEAMS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2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1677-2325-459F-AE3E-2886F607637B}" type="datetime">
              <a:rPr b="0" lang="en-US" sz="1200" spc="-1" strike="noStrike">
                <a:solidFill>
                  <a:srgbClr val="00457e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  •  page </a:t>
            </a:r>
            <a:fld id="{4AA9AC98-488B-4F57-B7A5-44E80EC70103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LEA/CHARTER SCHOOL TEAMS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REGISTRATION</a:t>
            </a:r>
            <a:endParaRPr b="1" lang="en-US" sz="1600" spc="-1" strike="noStrike">
              <a:solidFill>
                <a:srgbClr val="00457e"/>
              </a:solidFill>
              <a:latin typeface="Arial"/>
            </a:endParaRPr>
          </a:p>
        </p:txBody>
      </p:sp>
      <p:pic>
        <p:nvPicPr>
          <p:cNvPr id="348" name="Picture 4" descr="pic15.jpg"/>
          <p:cNvPicPr/>
          <p:nvPr/>
        </p:nvPicPr>
        <p:blipFill>
          <a:blip r:embed="rId1"/>
          <a:stretch/>
        </p:blipFill>
        <p:spPr>
          <a:xfrm>
            <a:off x="5638680" y="3887640"/>
            <a:ext cx="3505320" cy="2208240"/>
          </a:xfrm>
          <a:prstGeom prst="rect">
            <a:avLst/>
          </a:prstGeom>
          <a:ln w="0">
            <a:noFill/>
          </a:ln>
        </p:spPr>
      </p:pic>
      <p:sp>
        <p:nvSpPr>
          <p:cNvPr id="349" name="TextBox 5"/>
          <p:cNvSpPr/>
          <p:nvPr/>
        </p:nvSpPr>
        <p:spPr>
          <a:xfrm>
            <a:off x="0" y="1143000"/>
            <a:ext cx="9144000" cy="1066680"/>
          </a:xfrm>
          <a:prstGeom prst="rect">
            <a:avLst/>
          </a:prstGeom>
          <a:solidFill>
            <a:srgbClr val="4e75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ach team member must register individually for the sa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gister for only ONE session, pl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6"/>
          <p:cNvSpPr/>
          <p:nvPr/>
        </p:nvSpPr>
        <p:spPr>
          <a:xfrm>
            <a:off x="838080" y="914400"/>
            <a:ext cx="75438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52280" y="2427120"/>
          <a:ext cx="8839440" cy="1382760"/>
        </p:xfrm>
        <a:graphic>
          <a:graphicData uri="http://schemas.openxmlformats.org/drawingml/2006/table">
            <a:tbl>
              <a:tblPr/>
              <a:tblGrid>
                <a:gridCol w="1473480"/>
                <a:gridCol w="1473120"/>
                <a:gridCol w="1473120"/>
                <a:gridCol w="1473120"/>
                <a:gridCol w="1473120"/>
                <a:gridCol w="1473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*JUNE 27-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JULY 12-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JULY 14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JULY 19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JULY 21-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JULY 26-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REGION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REGION 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REGION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REGIO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REGION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REGION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Grove Park Inn, hosted by WR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Kinston HS, Lenoir 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West Stokes HS, Stokes 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Pasquotank HS, Pasquotank 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Grandview MS, Hickory City Sch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Southern MS, Moore 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2" name="TextBox 7"/>
          <p:cNvSpPr/>
          <p:nvPr/>
        </p:nvSpPr>
        <p:spPr>
          <a:xfrm>
            <a:off x="152280" y="3886200"/>
            <a:ext cx="5410440" cy="1921320"/>
          </a:xfrm>
          <a:prstGeom prst="rect">
            <a:avLst/>
          </a:prstGeom>
          <a:noFill/>
          <a:ln w="9360">
            <a:solidFill>
              <a:srgbClr val="5b88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457e"/>
                </a:solidFill>
                <a:latin typeface="Arial"/>
              </a:rPr>
              <a:t>*Contact Jan Webster, WRESA regarding Region 8 Summer Institute @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webster@wresa.org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457e"/>
                </a:solidFill>
                <a:latin typeface="Arial"/>
              </a:rPr>
              <a:t>-----------------------------------------------------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457e"/>
                </a:solidFill>
                <a:latin typeface="Arial"/>
              </a:rPr>
              <a:t>Register @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ncpublicschools.org/profdev/conferences/summerinstitut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457e"/>
                </a:solidFill>
                <a:latin typeface="Arial"/>
              </a:rPr>
              <a:t>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ncpublicschools.org/profdev/ac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BEFORE SUMMER INSTITUTES…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SCOPE OF WORK</a:t>
            </a:r>
            <a:endParaRPr b="1" lang="en-US" sz="16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54" name="Slide Number Placeholder 2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2/14/2011  •  page </a:t>
            </a:r>
            <a:fld id="{FE6A8ED1-6A3E-40F2-B37E-2248A4055698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4572000" y="19861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57e"/>
                </a:solidFill>
                <a:latin typeface="Arial"/>
              </a:rPr>
              <a:t>Review your LEA/Charter School’s Detailed Scope of Work (DSW) and local improvement plans to familiarize yourself with the innovative professional development ideas your LEA/charter school has outlined to help teachers transition to the new Common Core and Essential Standards (B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ncpublicschools.org/rt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4"/>
          <p:cNvSpPr/>
          <p:nvPr/>
        </p:nvSpPr>
        <p:spPr>
          <a:xfrm>
            <a:off x="762120" y="990720"/>
            <a:ext cx="75438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5" descr="pic11.jpg"/>
          <p:cNvPicPr/>
          <p:nvPr/>
        </p:nvPicPr>
        <p:blipFill>
          <a:blip r:embed="rId1"/>
          <a:stretch/>
        </p:blipFill>
        <p:spPr>
          <a:xfrm>
            <a:off x="228600" y="1371600"/>
            <a:ext cx="41148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BEFORE SUMMER INSTITUTES…         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MODULE 1</a:t>
            </a:r>
            <a:endParaRPr b="1" lang="en-US" sz="16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2/14/2011  •  page </a:t>
            </a:r>
            <a:fld id="{B04AC189-B100-4422-AD10-8ABF9196E28C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4"/>
          <p:cNvSpPr/>
          <p:nvPr/>
        </p:nvSpPr>
        <p:spPr>
          <a:xfrm>
            <a:off x="762120" y="990720"/>
            <a:ext cx="75438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5" descr="pic11.jpg"/>
          <p:cNvPicPr/>
          <p:nvPr/>
        </p:nvPicPr>
        <p:blipFill>
          <a:blip r:embed="rId1"/>
          <a:stretch/>
        </p:blipFill>
        <p:spPr>
          <a:xfrm>
            <a:off x="228600" y="1371600"/>
            <a:ext cx="3807000" cy="45720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6"/>
          <p:cNvSpPr/>
          <p:nvPr/>
        </p:nvSpPr>
        <p:spPr>
          <a:xfrm>
            <a:off x="4114800" y="1371600"/>
            <a:ext cx="4876920" cy="4613760"/>
          </a:xfrm>
          <a:prstGeom prst="rect">
            <a:avLst/>
          </a:prstGeom>
          <a:solidFill>
            <a:srgbClr val="4e75a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4191120" y="1752480"/>
            <a:ext cx="4800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Module 1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Call for Chang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cessible June 3, 2011) as a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team member will access the module through your NC FALCON log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e includes embedded team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blish a date and location where all team members can work in a “lab” 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DURING SUMMER INSTITUTES…</a:t>
            </a:r>
            <a:endParaRPr b="1" lang="en-US" sz="16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114800" y="15238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57e"/>
                </a:solidFill>
                <a:latin typeface="Arial"/>
              </a:rPr>
              <a:t>Participate in content-specific Training Sessions (K-5) and (6-12) and K-12 content sessions</a:t>
            </a: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57e"/>
                </a:solidFill>
                <a:latin typeface="Arial"/>
              </a:rPr>
              <a:t>Each RttT Coordinator will receive a hard-copy of the </a:t>
            </a:r>
            <a:r>
              <a:rPr b="0" i="1" lang="en-US" sz="1800" spc="-1" strike="noStrike">
                <a:solidFill>
                  <a:srgbClr val="00457e"/>
                </a:solidFill>
                <a:latin typeface="Arial"/>
              </a:rPr>
              <a:t>Common Core and Essential Standards Implementation Guide</a:t>
            </a: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57e"/>
                </a:solidFill>
                <a:latin typeface="Arial"/>
              </a:rPr>
              <a:t>Each team member will receive a CD of the </a:t>
            </a:r>
            <a:r>
              <a:rPr b="0" i="1" lang="en-US" sz="1800" spc="-1" strike="noStrike">
                <a:solidFill>
                  <a:srgbClr val="00457e"/>
                </a:solidFill>
                <a:latin typeface="Arial"/>
              </a:rPr>
              <a:t>Common Core and Essential Standards Implementation Guide</a:t>
            </a: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57e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57e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48C6-8A9C-47A1-9FC0-935E1F6E4889}" type="datetime">
              <a:rPr b="0" lang="en-US" sz="1200" spc="-1" strike="noStrike">
                <a:solidFill>
                  <a:srgbClr val="00457e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  •  page </a:t>
            </a:r>
            <a:fld id="{B389E10F-35C2-4AF4-B222-7385220FCCFE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5"/>
          <p:cNvSpPr/>
          <p:nvPr/>
        </p:nvSpPr>
        <p:spPr>
          <a:xfrm>
            <a:off x="762120" y="990720"/>
            <a:ext cx="75438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pic2.jpg"/>
          <p:cNvPicPr/>
          <p:nvPr/>
        </p:nvPicPr>
        <p:blipFill>
          <a:blip r:embed="rId1"/>
          <a:stretch/>
        </p:blipFill>
        <p:spPr>
          <a:xfrm>
            <a:off x="152280" y="1295280"/>
            <a:ext cx="3765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57e"/>
                </a:solidFill>
                <a:latin typeface="Arial"/>
              </a:rPr>
              <a:t>AFTER SUMMER INSTITUTES…</a:t>
            </a:r>
            <a:endParaRPr b="1" lang="en-US" sz="18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57e"/>
                </a:solidFill>
                <a:latin typeface="Arial"/>
              </a:rPr>
              <a:t>Develop an LEA/Charter School Professional Development implementation plan prior to 2012-13 school-year</a:t>
            </a: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57e"/>
                </a:solidFill>
                <a:latin typeface="Arial"/>
              </a:rPr>
              <a:t>Determine roles and responsibilities of each team member</a:t>
            </a: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57e"/>
                </a:solidFill>
                <a:latin typeface="Arial"/>
              </a:rPr>
              <a:t>Visit www.ncpublicschools.org/acre/standards/support-tools to review posted Instructional Tools</a:t>
            </a: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57e"/>
                </a:solidFill>
                <a:latin typeface="Arial"/>
              </a:rPr>
              <a:t>Access all Summer Institute presentations posted to DPI website for LEA and charter school use </a:t>
            </a: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57e"/>
                </a:solidFill>
                <a:latin typeface="Arial"/>
              </a:rPr>
              <a:t>Contact Curriculum and Instruction Staff, www.ncpublicschools.org/curriculum-instruction/directory/section </a:t>
            </a: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71" name="Slide Number Placeholder 4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F180-0286-4262-80FD-A2459B3A837B}" type="datetime">
              <a:rPr b="0" lang="en-US" sz="1200" spc="-1" strike="noStrike">
                <a:solidFill>
                  <a:srgbClr val="00457e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  •  page </a:t>
            </a:r>
            <a:fld id="{89A20A59-5EF8-4B67-93C4-FF87D8AE8D36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5"/>
          <p:cNvSpPr/>
          <p:nvPr/>
        </p:nvSpPr>
        <p:spPr>
          <a:xfrm>
            <a:off x="762120" y="990720"/>
            <a:ext cx="75438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57e"/>
                </a:solidFill>
                <a:latin typeface="Arial"/>
              </a:rPr>
              <a:t>Questions?</a:t>
            </a:r>
            <a:endParaRPr b="1" lang="en-US" sz="6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74" name="Slide Number Placeholder 2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2/14/2011  •  page </a:t>
            </a:r>
            <a:fld id="{02A2D3EB-7D8B-4FBF-8237-0FCD4EFCE2DC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533520" y="12952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4e6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ubtitle 4"/>
          <p:cNvSpPr/>
          <p:nvPr/>
        </p:nvSpPr>
        <p:spPr>
          <a:xfrm>
            <a:off x="76320" y="4191120"/>
            <a:ext cx="8915400" cy="1143000"/>
          </a:xfrm>
          <a:prstGeom prst="rect">
            <a:avLst/>
          </a:prstGeom>
          <a:noFill/>
          <a:ln w="38160">
            <a:solidFill>
              <a:srgbClr val="f0f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57e"/>
                </a:solidFill>
                <a:latin typeface="Arial"/>
                <a:ea typeface="Arial"/>
              </a:rPr>
              <a:t>Summer Institute Contac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57e"/>
                </a:solidFill>
                <a:latin typeface="Arial"/>
                <a:ea typeface="Arial"/>
              </a:rPr>
              <a:t>Yvette Stewart, RttT Project Coordinator, PD | ystewart@dpi.state.nc.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57e"/>
                </a:solidFill>
                <a:latin typeface="Arial"/>
                <a:ea typeface="Arial"/>
              </a:rPr>
              <a:t>Tracey Greggs, RttT Project Coordinator, Standards and Assessment | tgreggs@dpi.state.nc.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"/>
              </a:rPr>
              <a:t>WELCOME</a:t>
            </a: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pic>
        <p:nvPicPr>
          <p:cNvPr id="267" name="Picture 8" descr="IMAGE.jpg"/>
          <p:cNvPicPr/>
          <p:nvPr/>
        </p:nvPicPr>
        <p:blipFill>
          <a:blip r:embed="rId1"/>
          <a:stretch/>
        </p:blipFill>
        <p:spPr>
          <a:xfrm>
            <a:off x="3809880" y="16002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268" name="TextBox 9"/>
          <p:cNvSpPr/>
          <p:nvPr/>
        </p:nvSpPr>
        <p:spPr>
          <a:xfrm>
            <a:off x="3051720" y="3429000"/>
            <a:ext cx="287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vette Stew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y Greg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1"/>
          <p:cNvSpPr/>
          <p:nvPr/>
        </p:nvSpPr>
        <p:spPr>
          <a:xfrm>
            <a:off x="1913400" y="472428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Coordinators, Race to the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57e"/>
                </a:solidFill>
                <a:latin typeface="Arial"/>
              </a:rPr>
              <a:t>Webinar Objectives</a:t>
            </a:r>
            <a:endParaRPr b="1" lang="en-US" sz="28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71" name="Slide Number Placeholder 2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2/14/2011  •  page </a:t>
            </a:r>
            <a:fld id="{3D40A96A-8975-4231-8095-ECB9C32E29A9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609480" y="144792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goals of the Common Core and Essential Standards Summer In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the state’s blended approach to 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 teams of the expectations for the Common Core and Essential Standards Summer In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 key steps in preparation for the Summer In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4"/>
          <p:cNvSpPr/>
          <p:nvPr/>
        </p:nvSpPr>
        <p:spPr>
          <a:xfrm>
            <a:off x="685800" y="1143000"/>
            <a:ext cx="75438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57e"/>
                </a:solidFill>
                <a:latin typeface="Arial"/>
              </a:rPr>
              <a:t>Communications Chart</a:t>
            </a:r>
            <a:endParaRPr b="1" lang="en-US" sz="28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75" name="Slide Number Placeholder 2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2/14/2011  •  page </a:t>
            </a:r>
            <a:fld id="{6A53AEB6-F17E-48B7-8E3A-D55CB75BE04F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3"/>
          <p:cNvSpPr/>
          <p:nvPr/>
        </p:nvSpPr>
        <p:spPr>
          <a:xfrm>
            <a:off x="685800" y="1143000"/>
            <a:ext cx="75438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Content Placeholder 8" descr=""/>
          <p:cNvPicPr/>
          <p:nvPr/>
        </p:nvPicPr>
        <p:blipFill>
          <a:blip r:embed="rId1"/>
          <a:stretch/>
        </p:blipFill>
        <p:spPr>
          <a:xfrm>
            <a:off x="146160" y="1365120"/>
            <a:ext cx="8851680" cy="4584960"/>
          </a:xfrm>
          <a:prstGeom prst="rect">
            <a:avLst/>
          </a:prstGeom>
          <a:ln w="0">
            <a:noFill/>
          </a:ln>
        </p:spPr>
      </p:pic>
      <p:sp>
        <p:nvSpPr>
          <p:cNvPr id="278" name="Up Arrow 9"/>
          <p:cNvSpPr/>
          <p:nvPr/>
        </p:nvSpPr>
        <p:spPr>
          <a:xfrm>
            <a:off x="2792520" y="1752480"/>
            <a:ext cx="1017360" cy="396252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733560" y="6248160"/>
            <a:ext cx="4724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57e"/>
                </a:solidFill>
                <a:latin typeface="Arial"/>
              </a:rPr>
              <a:t>Timeline</a:t>
            </a:r>
            <a:endParaRPr b="1" lang="en-US" sz="2800" spc="-1" strike="noStrike">
              <a:solidFill>
                <a:srgbClr val="00457e"/>
              </a:solidFill>
              <a:latin typeface="Arial"/>
            </a:endParaRPr>
          </a:p>
        </p:txBody>
      </p:sp>
      <p:pic>
        <p:nvPicPr>
          <p:cNvPr id="280" name="Content Placeholder 7" descr="timeline.bmp"/>
          <p:cNvPicPr/>
          <p:nvPr/>
        </p:nvPicPr>
        <p:blipFill>
          <a:blip r:embed="rId1"/>
          <a:stretch/>
        </p:blipFill>
        <p:spPr>
          <a:xfrm>
            <a:off x="457200" y="0"/>
            <a:ext cx="8648640" cy="609588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2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2/14/2011  •  page </a:t>
            </a:r>
            <a:fld id="{157F9B19-B44D-4F15-9C4F-5BB91F818C2E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ounded Rectangle 8"/>
          <p:cNvSpPr/>
          <p:nvPr/>
        </p:nvSpPr>
        <p:spPr>
          <a:xfrm>
            <a:off x="4800600" y="990720"/>
            <a:ext cx="1066680" cy="25146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514600"/>
              <a:gd name="textAreaBottom" fmla="*/ 2462760 h 2514600"/>
            </a:gdLst>
            <a:ahLst/>
            <a:rect l="textAreaLeft" t="textAreaTop" r="textAreaRight" b="textAreaBottom"/>
            <a:pathLst>
              <a:path w="21600" h="50910">
                <a:moveTo>
                  <a:pt x="3600" y="0"/>
                </a:moveTo>
                <a:arcTo wR="3600" hR="3600" stAng="16200000" swAng="-5400000"/>
                <a:lnTo>
                  <a:pt x="0" y="47310"/>
                </a:lnTo>
                <a:arcTo wR="3600" hR="3600" stAng="10800000" swAng="-5400000"/>
                <a:lnTo>
                  <a:pt x="18000" y="509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ounded Rectangle 9"/>
          <p:cNvSpPr/>
          <p:nvPr/>
        </p:nvSpPr>
        <p:spPr>
          <a:xfrm>
            <a:off x="5867280" y="990720"/>
            <a:ext cx="1143000" cy="25146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514600"/>
              <a:gd name="textAreaBottom" fmla="*/ 2458800 h 2514600"/>
            </a:gdLst>
            <a:ahLst/>
            <a:rect l="textAreaLeft" t="textAreaTop" r="textAreaRight" b="textAreaBottom"/>
            <a:pathLst>
              <a:path w="21600" h="47512">
                <a:moveTo>
                  <a:pt x="3600" y="0"/>
                </a:moveTo>
                <a:arcTo wR="3600" hR="3600" stAng="16200000" swAng="-5400000"/>
                <a:lnTo>
                  <a:pt x="0" y="43912"/>
                </a:lnTo>
                <a:arcTo wR="3600" hR="3600" stAng="10800000" swAng="-5400000"/>
                <a:lnTo>
                  <a:pt x="18000" y="47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ounded Rectangle 10"/>
          <p:cNvSpPr/>
          <p:nvPr/>
        </p:nvSpPr>
        <p:spPr>
          <a:xfrm>
            <a:off x="7010280" y="990720"/>
            <a:ext cx="1524240" cy="251460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2514600"/>
              <a:gd name="textAreaBottom" fmla="*/ 2440440 h 2514600"/>
            </a:gdLst>
            <a:ahLst/>
            <a:rect l="textAreaLeft" t="textAreaTop" r="textAreaRight" b="textAreaBottom"/>
            <a:pathLst>
              <a:path w="21600" h="35631">
                <a:moveTo>
                  <a:pt x="3600" y="0"/>
                </a:moveTo>
                <a:arcTo wR="3600" hR="3600" stAng="16200000" swAng="-5400000"/>
                <a:lnTo>
                  <a:pt x="0" y="32031"/>
                </a:lnTo>
                <a:arcTo wR="3600" hR="3600" stAng="10800000" swAng="-5400000"/>
                <a:lnTo>
                  <a:pt x="18000" y="35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iped Right Arrow 11"/>
          <p:cNvSpPr/>
          <p:nvPr/>
        </p:nvSpPr>
        <p:spPr>
          <a:xfrm>
            <a:off x="2666880" y="5611680"/>
            <a:ext cx="1447920" cy="484200"/>
          </a:xfrm>
          <a:custGeom>
            <a:avLst/>
            <a:gdLst>
              <a:gd name="textAreaLeft" fmla="*/ 75600 w 1447920"/>
              <a:gd name="textAreaRight" fmla="*/ 1326960 w 1447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1447800" h="484187">
                <a:moveTo>
                  <a:pt x="0" y="121047"/>
                </a:moveTo>
                <a:lnTo>
                  <a:pt x="15131" y="121047"/>
                </a:lnTo>
                <a:lnTo>
                  <a:pt x="15131" y="363140"/>
                </a:lnTo>
                <a:lnTo>
                  <a:pt x="0" y="363140"/>
                </a:lnTo>
                <a:close/>
                <a:moveTo>
                  <a:pt x="30262" y="121047"/>
                </a:moveTo>
                <a:lnTo>
                  <a:pt x="60523" y="121047"/>
                </a:lnTo>
                <a:lnTo>
                  <a:pt x="60523" y="363140"/>
                </a:lnTo>
                <a:lnTo>
                  <a:pt x="30262" y="363140"/>
                </a:lnTo>
                <a:close/>
                <a:moveTo>
                  <a:pt x="75654" y="121047"/>
                </a:moveTo>
                <a:lnTo>
                  <a:pt x="1205707" y="121047"/>
                </a:lnTo>
                <a:lnTo>
                  <a:pt x="1205707" y="0"/>
                </a:lnTo>
                <a:lnTo>
                  <a:pt x="1447800" y="242094"/>
                </a:lnTo>
                <a:lnTo>
                  <a:pt x="1205707" y="484187"/>
                </a:lnTo>
                <a:lnTo>
                  <a:pt x="1205707" y="363140"/>
                </a:lnTo>
                <a:lnTo>
                  <a:pt x="75654" y="363140"/>
                </a:lnTo>
                <a:close/>
              </a:path>
            </a:pathLst>
          </a:custGeom>
          <a:solidFill>
            <a:srgbClr val="a5b592"/>
          </a:solidFill>
          <a:ln w="25560">
            <a:solidFill>
              <a:srgbClr val="7884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eft Arrow Callout 12"/>
          <p:cNvSpPr/>
          <p:nvPr/>
        </p:nvSpPr>
        <p:spPr>
          <a:xfrm rot="10800000">
            <a:off x="0" y="1447560"/>
            <a:ext cx="914400" cy="1981080"/>
          </a:xfrm>
          <a:prstGeom prst="leftArrowCallout">
            <a:avLst>
              <a:gd name="adj1" fmla="val 18939"/>
              <a:gd name="adj2" fmla="val 36811"/>
              <a:gd name="adj3" fmla="val 29546"/>
              <a:gd name="adj4" fmla="val 46801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eft Brace 13"/>
          <p:cNvSpPr/>
          <p:nvPr/>
        </p:nvSpPr>
        <p:spPr>
          <a:xfrm>
            <a:off x="1143000" y="243828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 h 990720"/>
              <a:gd name="textAreaBottom" fmla="*/ 9867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5400" y="10800"/>
                  <a:pt x="0" y="10800"/>
                </a:cubicBezTo>
                <a:cubicBezTo>
                  <a:pt x="54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13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533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Essential Stand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5"/>
          <p:cNvSpPr/>
          <p:nvPr/>
        </p:nvSpPr>
        <p:spPr>
          <a:xfrm>
            <a:off x="76320" y="152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8fb2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57e"/>
                </a:solidFill>
                <a:latin typeface="Arial"/>
              </a:rPr>
              <a:t>TRANSFORMING PROFESSIONAL DEVELOPMENT</a:t>
            </a:r>
            <a:br>
              <a:rPr sz="2900"/>
            </a:br>
            <a:endParaRPr b="1" lang="en-US" sz="2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91" name="Slide Number Placeholder 5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2/14/2011  •  page </a:t>
            </a:r>
            <a:fld id="{36E1E007-82DE-478D-8E7A-C8958C01E7A1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4" descr="10037099.JPG"/>
          <p:cNvPicPr/>
          <p:nvPr/>
        </p:nvPicPr>
        <p:blipFill>
          <a:blip r:embed="rId1"/>
          <a:stretch/>
        </p:blipFill>
        <p:spPr>
          <a:xfrm>
            <a:off x="0" y="2895480"/>
            <a:ext cx="5410080" cy="3127320"/>
          </a:xfrm>
          <a:prstGeom prst="rect">
            <a:avLst/>
          </a:prstGeom>
          <a:ln w="0">
            <a:noFill/>
          </a:ln>
        </p:spPr>
      </p:pic>
      <p:sp>
        <p:nvSpPr>
          <p:cNvPr id="293" name="Straight Connector 17"/>
          <p:cNvSpPr/>
          <p:nvPr/>
        </p:nvSpPr>
        <p:spPr>
          <a:xfrm>
            <a:off x="685800" y="1143000"/>
            <a:ext cx="75438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7"/>
          <p:cNvSpPr/>
          <p:nvPr/>
        </p:nvSpPr>
        <p:spPr>
          <a:xfrm>
            <a:off x="4876920" y="1441440"/>
            <a:ext cx="3962160" cy="1981080"/>
          </a:xfrm>
          <a:prstGeom prst="rect">
            <a:avLst/>
          </a:prstGeom>
          <a:solidFill>
            <a:srgbClr val="344e6d"/>
          </a:solidFill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4876920" y="1441440"/>
            <a:ext cx="396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 ensure that every teacher in North Carolina has a deep, specific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derstand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of the new Common Core and Essential Standards and ca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mplem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them to improve student outc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76320" y="152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8fb2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57e"/>
                </a:solidFill>
                <a:latin typeface="Arial"/>
              </a:rPr>
              <a:t>A BLENDED APPROACH</a:t>
            </a:r>
            <a:endParaRPr b="1" lang="en-US" sz="28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98" name="Slide Number Placeholder 2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2/14/2011  •  page </a:t>
            </a:r>
            <a:fld id="{6DAB1637-7981-4F74-92F5-A5E6E4FC9285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3"/>
          <p:cNvSpPr/>
          <p:nvPr/>
        </p:nvSpPr>
        <p:spPr>
          <a:xfrm>
            <a:off x="838080" y="1219320"/>
            <a:ext cx="75438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990720" y="14479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ombination of online and face-to-face learning that includes different combinations of technologies, pedagogies, and contexts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Graham, 2006; Stacey &amp; Gerbic, 2001; Garrison and Vaughn,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5"/>
          <p:cNvSpPr/>
          <p:nvPr/>
        </p:nvSpPr>
        <p:spPr>
          <a:xfrm>
            <a:off x="762120" y="3048120"/>
            <a:ext cx="3276360" cy="25146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4e75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5"/>
          <p:cNvSpPr/>
          <p:nvPr/>
        </p:nvSpPr>
        <p:spPr>
          <a:xfrm>
            <a:off x="4952880" y="3048120"/>
            <a:ext cx="3276720" cy="25146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4e75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3"/>
          <p:cNvSpPr/>
          <p:nvPr/>
        </p:nvSpPr>
        <p:spPr>
          <a:xfrm>
            <a:off x="1143000" y="3429000"/>
            <a:ext cx="24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A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ti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4"/>
          <p:cNvSpPr/>
          <p:nvPr/>
        </p:nvSpPr>
        <p:spPr>
          <a:xfrm>
            <a:off x="5486400" y="3301920"/>
            <a:ext cx="2209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nline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fession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rtual PL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1295280" y="2666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e to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0"/>
          <p:cNvSpPr/>
          <p:nvPr/>
        </p:nvSpPr>
        <p:spPr>
          <a:xfrm>
            <a:off x="5486400" y="2666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57e"/>
                </a:solidFill>
                <a:latin typeface="Arial"/>
              </a:rPr>
              <a:t>Professional Development: Access and Support </a:t>
            </a:r>
            <a:endParaRPr b="1" lang="en-US" sz="2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08" name="Slide Number Placeholder 2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4740-A363-4A20-8A2F-6A02951031AF}" type="datetime">
              <a:rPr b="0" lang="en-US" sz="1200" spc="-1" strike="noStrike">
                <a:solidFill>
                  <a:srgbClr val="00457e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  •  page </a:t>
            </a:r>
            <a:fld id="{EBBA953E-7D1E-4B5C-B315-FB44B65CC42F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7"/>
          <p:cNvSpPr/>
          <p:nvPr/>
        </p:nvSpPr>
        <p:spPr>
          <a:xfrm>
            <a:off x="457200" y="2209680"/>
            <a:ext cx="8686800" cy="2743200"/>
          </a:xfrm>
          <a:prstGeom prst="rightArrow">
            <a:avLst>
              <a:gd name="adj1" fmla="val 57407"/>
              <a:gd name="adj2" fmla="val 22636"/>
            </a:avLst>
          </a:prstGeom>
          <a:solidFill>
            <a:srgbClr val="3366ff">
              <a:alpha val="14000"/>
            </a:srgbClr>
          </a:solidFill>
          <a:ln w="2844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0"/>
          <p:cNvSpPr/>
          <p:nvPr/>
        </p:nvSpPr>
        <p:spPr>
          <a:xfrm>
            <a:off x="228600" y="1066680"/>
            <a:ext cx="4495680" cy="398880"/>
          </a:xfrm>
          <a:prstGeom prst="rect">
            <a:avLst/>
          </a:prstGeom>
          <a:solidFill>
            <a:srgbClr val="4e75a3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Calibri"/>
              </a:rPr>
              <a:t>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228600" y="17524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line support to increase teacher understanding and implementation of standa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3"/>
          <p:cNvSpPr/>
          <p:nvPr/>
        </p:nvSpPr>
        <p:spPr>
          <a:xfrm>
            <a:off x="76320" y="2286000"/>
            <a:ext cx="914400" cy="3581280"/>
          </a:xfrm>
          <a:prstGeom prst="rect">
            <a:avLst/>
          </a:prstGeom>
          <a:solidFill>
            <a:srgbClr val="40c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9"/>
          <p:cNvSpPr/>
          <p:nvPr/>
        </p:nvSpPr>
        <p:spPr>
          <a:xfrm rot="16200000">
            <a:off x="-1149120" y="3663720"/>
            <a:ext cx="3427200" cy="824040"/>
          </a:xfrm>
          <a:prstGeom prst="rect">
            <a:avLst/>
          </a:prstGeom>
          <a:solidFill>
            <a:srgbClr val="4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Call for Chan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 Overview of the Common Core and Essential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3"/>
          <p:cNvSpPr/>
          <p:nvPr/>
        </p:nvSpPr>
        <p:spPr>
          <a:xfrm>
            <a:off x="1905120" y="2286000"/>
            <a:ext cx="914400" cy="358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9"/>
          <p:cNvSpPr/>
          <p:nvPr/>
        </p:nvSpPr>
        <p:spPr>
          <a:xfrm rot="16200000">
            <a:off x="72720" y="3907080"/>
            <a:ext cx="342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: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Understanding the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3"/>
          <p:cNvSpPr/>
          <p:nvPr/>
        </p:nvSpPr>
        <p:spPr>
          <a:xfrm>
            <a:off x="990720" y="2286000"/>
            <a:ext cx="914400" cy="358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3"/>
          <p:cNvSpPr/>
          <p:nvPr/>
        </p:nvSpPr>
        <p:spPr>
          <a:xfrm>
            <a:off x="3733920" y="2286000"/>
            <a:ext cx="761760" cy="3581280"/>
          </a:xfrm>
          <a:prstGeom prst="rect">
            <a:avLst/>
          </a:prstGeom>
          <a:solidFill>
            <a:srgbClr val="ecd3d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3"/>
          <p:cNvSpPr/>
          <p:nvPr/>
        </p:nvSpPr>
        <p:spPr>
          <a:xfrm>
            <a:off x="2819520" y="2286000"/>
            <a:ext cx="914400" cy="358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9"/>
          <p:cNvSpPr/>
          <p:nvPr/>
        </p:nvSpPr>
        <p:spPr>
          <a:xfrm rot="16200000">
            <a:off x="626760" y="3792600"/>
            <a:ext cx="36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: Revised Bloom’s Taxonomy (RB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9"/>
          <p:cNvSpPr/>
          <p:nvPr/>
        </p:nvSpPr>
        <p:spPr>
          <a:xfrm rot="16200000">
            <a:off x="-270720" y="3907800"/>
            <a:ext cx="3429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: Understanding the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0"/>
          <p:cNvSpPr/>
          <p:nvPr/>
        </p:nvSpPr>
        <p:spPr>
          <a:xfrm>
            <a:off x="4952880" y="1066680"/>
            <a:ext cx="4038840" cy="703800"/>
          </a:xfrm>
          <a:prstGeom prst="rect">
            <a:avLst/>
          </a:prstGeom>
          <a:solidFill>
            <a:srgbClr val="4e75a3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Calibri"/>
              </a:rPr>
              <a:t>CC and Essential Standard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3"/>
          <p:cNvSpPr/>
          <p:nvPr/>
        </p:nvSpPr>
        <p:spPr>
          <a:xfrm>
            <a:off x="5943600" y="2286000"/>
            <a:ext cx="762120" cy="358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9"/>
          <p:cNvSpPr/>
          <p:nvPr/>
        </p:nvSpPr>
        <p:spPr>
          <a:xfrm rot="16200000">
            <a:off x="4528080" y="3929760"/>
            <a:ext cx="36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Implementation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6705720" y="2286000"/>
            <a:ext cx="761760" cy="358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9"/>
          <p:cNvSpPr/>
          <p:nvPr/>
        </p:nvSpPr>
        <p:spPr>
          <a:xfrm rot="16200000">
            <a:off x="5350680" y="3929760"/>
            <a:ext cx="35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3"/>
          <p:cNvSpPr/>
          <p:nvPr/>
        </p:nvSpPr>
        <p:spPr>
          <a:xfrm>
            <a:off x="7467480" y="2286000"/>
            <a:ext cx="762120" cy="3581280"/>
          </a:xfrm>
          <a:prstGeom prst="rect">
            <a:avLst/>
          </a:prstGeom>
          <a:gradFill rotWithShape="0">
            <a:gsLst>
              <a:gs pos="0">
                <a:srgbClr val="ffebf1"/>
              </a:gs>
              <a:gs pos="100000">
                <a:srgbClr val="ffbbd0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9"/>
          <p:cNvSpPr/>
          <p:nvPr/>
        </p:nvSpPr>
        <p:spPr>
          <a:xfrm rot="16200000">
            <a:off x="6108480" y="3721320"/>
            <a:ext cx="3503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wal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packing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34"/>
          <p:cNvSpPr/>
          <p:nvPr/>
        </p:nvSpPr>
        <p:spPr>
          <a:xfrm>
            <a:off x="4876920" y="167652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ctional Tools targeted to aid in the transition and to complement the professional develop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9"/>
          <p:cNvSpPr/>
          <p:nvPr/>
        </p:nvSpPr>
        <p:spPr>
          <a:xfrm rot="16200000">
            <a:off x="1556280" y="3929760"/>
            <a:ext cx="35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: Developing Local Curri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9"/>
          <p:cNvSpPr/>
          <p:nvPr/>
        </p:nvSpPr>
        <p:spPr>
          <a:xfrm rot="16200000">
            <a:off x="2394720" y="3929760"/>
            <a:ext cx="35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: NC FAL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3"/>
          <p:cNvSpPr/>
          <p:nvPr/>
        </p:nvSpPr>
        <p:spPr>
          <a:xfrm>
            <a:off x="4495680" y="2286000"/>
            <a:ext cx="914400" cy="3581280"/>
          </a:xfrm>
          <a:prstGeom prst="rect">
            <a:avLst/>
          </a:prstGeom>
          <a:solidFill>
            <a:srgbClr val="ecd3d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9"/>
          <p:cNvSpPr/>
          <p:nvPr/>
        </p:nvSpPr>
        <p:spPr>
          <a:xfrm rot="16200000">
            <a:off x="3180960" y="3792600"/>
            <a:ext cx="35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C Teacher Standards Cour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57e"/>
                </a:solidFill>
                <a:latin typeface="Arial"/>
              </a:rPr>
              <a:t>LEA and Charter School Teams</a:t>
            </a:r>
            <a:r>
              <a:rPr b="1" lang="en-US" sz="18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457e"/>
                </a:solidFill>
                <a:latin typeface="Arial"/>
              </a:rPr>
              <a:t>Goals of Summer Institutes</a:t>
            </a:r>
            <a:endParaRPr b="1" lang="en-US" sz="18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2/14/2011  •  page </a:t>
            </a:r>
            <a:fld id="{8BD9E14E-3CED-4713-BC7E-02A91E2FC6D9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4" descr="10037099.JPG"/>
          <p:cNvPicPr/>
          <p:nvPr/>
        </p:nvPicPr>
        <p:blipFill>
          <a:blip r:embed="rId1"/>
          <a:stretch/>
        </p:blipFill>
        <p:spPr>
          <a:xfrm>
            <a:off x="0" y="3030480"/>
            <a:ext cx="3809880" cy="3065400"/>
          </a:xfrm>
          <a:prstGeom prst="rect">
            <a:avLst/>
          </a:prstGeom>
          <a:ln w="0">
            <a:noFill/>
          </a:ln>
        </p:spPr>
      </p:pic>
      <p:sp>
        <p:nvSpPr>
          <p:cNvPr id="336" name="Straight Connector 17"/>
          <p:cNvSpPr/>
          <p:nvPr/>
        </p:nvSpPr>
        <p:spPr>
          <a:xfrm>
            <a:off x="685800" y="990720"/>
            <a:ext cx="75438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7"/>
          <p:cNvSpPr/>
          <p:nvPr/>
        </p:nvSpPr>
        <p:spPr>
          <a:xfrm>
            <a:off x="3962520" y="1219320"/>
            <a:ext cx="5105160" cy="4800600"/>
          </a:xfrm>
          <a:prstGeom prst="rect">
            <a:avLst/>
          </a:prstGeom>
          <a:solidFill>
            <a:srgbClr val="4e75a3"/>
          </a:solidFill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0f3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3ee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0f3ee"/>
                </a:solidFill>
                <a:latin typeface="Arial"/>
                <a:ea typeface="Arial"/>
              </a:rPr>
              <a:t>A deeper understanding of the new Common Core and Essential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f3ee"/>
                </a:solidFill>
                <a:latin typeface="Arial"/>
                <a:ea typeface="Arial"/>
              </a:rPr>
              <a:t>• </a:t>
            </a:r>
            <a:r>
              <a:rPr b="0" lang="en-US" sz="1800" spc="-1" strike="noStrike">
                <a:solidFill>
                  <a:srgbClr val="f0f3ee"/>
                </a:solidFill>
                <a:latin typeface="Arial"/>
                <a:ea typeface="Arial"/>
              </a:rPr>
              <a:t>Training materials needed to support and sustain local profession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0f3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0f3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f3ee"/>
                </a:solidFill>
                <a:latin typeface="Arial"/>
                <a:ea typeface="Arial"/>
              </a:rPr>
              <a:t>An understanding how to integrate the online learning in local profession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7"/>
          <p:cNvSpPr/>
          <p:nvPr/>
        </p:nvSpPr>
        <p:spPr>
          <a:xfrm>
            <a:off x="5105520" y="1371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f3ee"/>
                </a:solidFill>
                <a:latin typeface="Arial"/>
                <a:ea typeface="Arial"/>
              </a:rPr>
              <a:t>Each institute will provi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76320" y="152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8fb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8:52:22Z</dcterms:created>
  <dc:creator> </dc:creator>
  <dc:description/>
  <dc:language>en-US</dc:language>
  <cp:lastModifiedBy>Yvette Stewart</cp:lastModifiedBy>
  <cp:lastPrinted>2011-01-25T21:11:50Z</cp:lastPrinted>
  <dcterms:modified xsi:type="dcterms:W3CDTF">2011-03-23T18:37:38Z</dcterms:modified>
  <cp:revision>387</cp:revision>
  <dc:subject/>
  <dc:title>Slide 1</dc:title>
</cp:coreProperties>
</file>